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click.wav" ContentType="audio/x-wav"/>
  <Override PartName="/ppt/media/image2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type.wav" ContentType="audio/x-wav"/>
  <Override PartName="/ppt/media/image6.jpeg" ContentType="image/jpeg"/>
  <Override PartName="/ppt/media/image17.png" ContentType="image/png"/>
  <Override PartName="/ppt/media/image32.jpeg" ContentType="image/jpeg"/>
  <Override PartName="/ppt/media/chimes.wav" ContentType="audio/x-wav"/>
  <Override PartName="/ppt/media/image29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png" ContentType="image/png"/>
  <Override PartName="/ppt/media/image43.jpeg" ContentType="image/jpeg"/>
  <Override PartName="/ppt/media/image44.wmf" ContentType="image/x-wmf"/>
  <Override PartName="/ppt/media/image20.png" ContentType="image/png"/>
  <Override PartName="/ppt/media/image3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900-F957-48F5-AE93-1EB2E6A2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B74-681B-4813-8391-119EA5F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3DA-1067-4702-ABE0-18AF34F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44C-DB5D-4CD9-AD57-196CFAAF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6CCA-E5DC-44F6-8F58-37FF87CA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501-066B-4326-B914-B13DD6F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9035-BE6B-4083-A815-A9B7DE7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641-D79C-4914-9CF2-A6F6741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D8F-B239-4E28-87C2-22422F9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965-3F44-4EE5-BB17-695BC75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5241-937D-4A68-9914-99837ED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B03-384F-46D4-BE24-C165234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EA00-3BE5-4388-9DE3-CDDF1DE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1BA-252B-4F18-BCB1-D66F91D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C104-9804-45CD-B95B-02B796E2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3348-EB51-4F42-8C84-880C8B08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653-FA43-4685-A9A7-650F98DE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557-9A5F-4D65-9104-38B0E57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C96-746D-4758-A239-4E8F9052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CDF-8FD0-42A1-80B1-0FA361F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2F3-9C0D-4DF2-9082-D8F81DB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D8A-6E34-492C-899A-0637023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8EE-1A8E-4BB0-9A20-20B2F56A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986-1432-4446-A52C-33C9E6B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E36-E9BB-4673-AB68-3472FD2E4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84E-F0E2-4087-A1D6-8922566F6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94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98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7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散文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默读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文本框 13317"/>
          <p:cNvSpPr/>
          <p:nvPr/>
        </p:nvSpPr>
        <p:spPr>
          <a:xfrm>
            <a:off x="762120" y="1720800"/>
            <a:ext cx="814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概括本诗的主要内容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180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10"/>
          <p:cNvSpPr/>
          <p:nvPr/>
        </p:nvSpPr>
        <p:spPr>
          <a:xfrm>
            <a:off x="395280" y="30132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变成了一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色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和妈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嬉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1265"/>
          <p:cNvSpPr txBox="1"/>
          <p:nvPr/>
        </p:nvSpPr>
        <p:spPr>
          <a:xfrm>
            <a:off x="395280" y="83520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美读悟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84" name="矩形 11266"/>
          <p:cNvSpPr/>
          <p:nvPr/>
        </p:nvSpPr>
        <p:spPr>
          <a:xfrm>
            <a:off x="0" y="2565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☆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认为该用什么样感情基调来朗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267"/>
          <p:cNvSpPr/>
          <p:nvPr/>
        </p:nvSpPr>
        <p:spPr>
          <a:xfrm>
            <a:off x="0" y="3575160"/>
            <a:ext cx="9144000" cy="1099440"/>
          </a:xfrm>
          <a:prstGeom prst="rect">
            <a:avLst/>
          </a:prstGeom>
          <a:solidFill>
            <a:srgbClr val="ff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喜悦、舒缓、温馨、深情，读出母子之爱和儿童特有的调皮。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2560" y="475920"/>
            <a:ext cx="889308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读以下诗句，应读出怎样的语气感受到什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如我变成了一朵金色花，为了好玩，长在树的高枝上，笑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嘻的在空中摇摆，又在新叶上跳舞，妈妈你会认识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要是叫到：“孩子，你在哪里呀？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暗暗地在那里匿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却一声儿不响”，这一段写出了孩子的什么特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290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孩子的调皮，得意，骄傲。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“假如”表明全篇文章是以一种想象的方式来写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个词是本文的文眼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291"/>
          <p:cNvSpPr/>
          <p:nvPr/>
        </p:nvSpPr>
        <p:spPr>
          <a:xfrm>
            <a:off x="0" y="429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母亲的焦急惦念。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以儿童特有的方式表达对母亲的感情，构成一幅儿童嬉戏的画面。听着母亲的呼唤，“我”“暗暗”“匿笑”“一声儿不响”，表现了孩子的调皮、可爱、活泼、天真。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2560" y="475920"/>
            <a:ext cx="889308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读以下诗句，应读出怎样的语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不告诉你，妈妈。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④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到哪里去了，你这坏孩子？”（为什么妈妈见了面，说“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这坏孩子”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92"/>
          <p:cNvSpPr/>
          <p:nvPr/>
        </p:nvSpPr>
        <p:spPr>
          <a:xfrm>
            <a:off x="4027320" y="27082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孩子的淘气、机灵、撒娇、调皮和对母亲的爱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293"/>
          <p:cNvSpPr/>
          <p:nvPr/>
        </p:nvSpPr>
        <p:spPr>
          <a:xfrm>
            <a:off x="0" y="429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母亲的嗔怪、担忧、焦虑和欣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）（可以想见，孩子不见了，妈妈多么着急，这种焦急的心情肯定与时俱增，一旦见了，又惊又喜，妈妈自然会嗔怪孩子，所以说“我”是“坏孩子”，嗔怪中透出的其实是至真的母爱。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文本框 13317"/>
          <p:cNvSpPr/>
          <p:nvPr/>
        </p:nvSpPr>
        <p:spPr>
          <a:xfrm>
            <a:off x="762120" y="1720800"/>
            <a:ext cx="814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中孩子是用什么方式来表达自己对母亲的爱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为妈妈做了哪些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为妈妈做了好事为什么不让妈妈知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为什么把孩子想像成一朵金色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200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文本框 13317"/>
          <p:cNvSpPr/>
          <p:nvPr/>
        </p:nvSpPr>
        <p:spPr>
          <a:xfrm>
            <a:off x="0" y="172080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中孩子是用什么方式来表达自己对母亲的爱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208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0" y="328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他想变成一朵金色花，让妈妈嗅到花香，让妈妈看书不伤眼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8336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8336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24000" y="1341360"/>
            <a:ext cx="856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”变成金色花后干了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妈妈                  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做祷告时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读书时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拿灯去牛棚时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24360" y="328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开放花瓣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散发香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06728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跳妈妈面前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恢复原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24360" y="40766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将影子投在书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3316"/>
          <p:cNvSpPr txBox="1"/>
          <p:nvPr/>
        </p:nvSpPr>
        <p:spPr>
          <a:xfrm>
            <a:off x="250920" y="189000"/>
            <a:ext cx="2209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316"/>
          <p:cNvSpPr txBox="1"/>
          <p:nvPr/>
        </p:nvSpPr>
        <p:spPr>
          <a:xfrm>
            <a:off x="0" y="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文本框 13317"/>
          <p:cNvSpPr/>
          <p:nvPr/>
        </p:nvSpPr>
        <p:spPr>
          <a:xfrm>
            <a:off x="108000" y="98100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变成金色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不愿让妈妈知道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321"/>
          <p:cNvSpPr/>
          <p:nvPr/>
        </p:nvSpPr>
        <p:spPr>
          <a:xfrm>
            <a:off x="762120" y="30481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3322"/>
          <p:cNvSpPr/>
          <p:nvPr/>
        </p:nvSpPr>
        <p:spPr>
          <a:xfrm>
            <a:off x="179280" y="2900880"/>
            <a:ext cx="882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懂得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的奉献是无私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对母爱的回报也应该是无私的，他不图妈妈夸奖，但求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这样会给妈妈带来惊喜，使妈妈生活得更加温馨，同时给妈妈带来快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他只是撒娇，就是瞒着妈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正如“我要悄悄地开放花瓣儿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看着你工作”这句话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快乐、活泼的孩子沐浴着母爱，他懂得，母爱是无私的，对母爱的回报也应该是无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83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为什么把孩子想象为金色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0" y="2495520"/>
            <a:ext cx="9144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金色花是美丽的圣树上的花朵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赞美孩子可爱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那金黄的色彩，正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反映着母爱的光辉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人们喜爱花儿，花儿也惠及人们，正可以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象征孩子回报母爱的心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矩形 4" descr=""/>
          <p:cNvPicPr/>
          <p:nvPr/>
        </p:nvPicPr>
        <p:blipFill>
          <a:blip r:embed="rId1"/>
          <a:stretch/>
        </p:blipFill>
        <p:spPr>
          <a:xfrm>
            <a:off x="-212760" y="-109440"/>
            <a:ext cx="27003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4"/>
          <p:cNvSpPr/>
          <p:nvPr/>
        </p:nvSpPr>
        <p:spPr>
          <a:xfrm>
            <a:off x="324000" y="3034440"/>
            <a:ext cx="822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孩子：天真可爱、活泼淘气、孝顺机灵、天生善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母亲：关爱孩子、沉静安详、善良慈爱、有修养，有生活情调，有虔诚的信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563400" y="1568880"/>
            <a:ext cx="7979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是一个怎样的孩子和一个怎样的妈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4"/>
          <a:stretch/>
        </p:blipFill>
        <p:spPr>
          <a:xfrm>
            <a:off x="6856560" y="4883040"/>
            <a:ext cx="1930320" cy="164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D:\我的文档\Tencent Files\923213587\FileRecv\研读探究.gif"/>
          <p:cNvPicPr/>
          <p:nvPr/>
        </p:nvPicPr>
        <p:blipFill>
          <a:blip r:embed="rId5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74753" descr="图片4"/>
          <p:cNvPicPr/>
          <p:nvPr/>
        </p:nvPicPr>
        <p:blipFill>
          <a:blip r:embed="rId1"/>
          <a:stretch/>
        </p:blipFill>
        <p:spPr>
          <a:xfrm>
            <a:off x="882720" y="652320"/>
            <a:ext cx="3521160" cy="2630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4754" descr="rurl2=8e50a6edba6542e56fa163f9077f6e0963afabf8f1a138d76b3f71f6b8c327c6754731bcc3de7d39e89b215da9494230a857b95d6b0dbdcb80963cc7a1439ba15579d4e4ff4c882a9a897deb53d9312496ec12cf"/>
          <p:cNvPicPr/>
          <p:nvPr/>
        </p:nvPicPr>
        <p:blipFill>
          <a:blip r:embed="rId2"/>
          <a:stretch/>
        </p:blipFill>
        <p:spPr>
          <a:xfrm>
            <a:off x="4764240" y="698400"/>
            <a:ext cx="3416040" cy="2551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4755" descr="rurl2=158c1010b6afedb09e24e94562aa4681f2c3a2b28d011dcf1f7451e586c4be152fb536e07b7d115b72603003e3814c6c9ea0f8e55a020ffa5ef38101ae6c6f1d36863537e5df8791fe0ba783a3b069308f5a645d"/>
          <p:cNvPicPr/>
          <p:nvPr/>
        </p:nvPicPr>
        <p:blipFill>
          <a:blip r:embed="rId3"/>
          <a:stretch/>
        </p:blipFill>
        <p:spPr>
          <a:xfrm>
            <a:off x="942840" y="3463920"/>
            <a:ext cx="3405240" cy="2568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4756" descr="rurl2=5a8d59843be1b50e0d5c28f32f899cfb0fad99aed30e8a729a2ddccbb6e5f29d4829cb2fe33b685857fc8a97efceb25460106e6bd10708387141ac062cc5155075670aa82134e05ca1567bd3868c979766e9f09c"/>
          <p:cNvPicPr/>
          <p:nvPr/>
        </p:nvPicPr>
        <p:blipFill>
          <a:blip r:embed="rId4"/>
          <a:stretch/>
        </p:blipFill>
        <p:spPr>
          <a:xfrm>
            <a:off x="4730760" y="3438360"/>
            <a:ext cx="3456000" cy="2689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4757" descr="rurl2=3985b1edcfa6beee9aef1db33d6f059b065d904c44b0765fac7203e113b3d1570ff8a62dfa04c5c960452fbec7ba6b762d34196a7d05bdb50962b9e28be5b06f313f7eeaba98310e98cecee05958f8f9ee007c70"/>
          <p:cNvPicPr/>
          <p:nvPr/>
        </p:nvPicPr>
        <p:blipFill>
          <a:blip r:embed="rId5"/>
          <a:stretch/>
        </p:blipFill>
        <p:spPr>
          <a:xfrm>
            <a:off x="880920" y="55728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4758" descr="rurl2=f2644605ba6023e9bcc073002fcccf49df244e57f6cb7375ef0c17f7bd36ca4ad5d502f36882de6c5dbb9110c6cd7f6d059ca0510ccd7ac85d9d7a315be75b59f78ef62f31f9b516e5d4fc5935a05d257c665356"/>
          <p:cNvPicPr/>
          <p:nvPr/>
        </p:nvPicPr>
        <p:blipFill>
          <a:blip r:embed="rId6"/>
          <a:stretch/>
        </p:blipFill>
        <p:spPr>
          <a:xfrm>
            <a:off x="4729320" y="603360"/>
            <a:ext cx="3579480" cy="2693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4759" descr="rurl2=0cc0c18084c276d8e9a527be40d85418289fcb78518749d1d6f5f9ade36532314e6d7286bcd2c839f358692ad1015fe8fce0644b296355617c287d578679ee7066093b96a54c272e7f3094f567c1c80a579b72fc"/>
          <p:cNvPicPr/>
          <p:nvPr/>
        </p:nvPicPr>
        <p:blipFill>
          <a:blip r:embed="rId7"/>
          <a:stretch/>
        </p:blipFill>
        <p:spPr>
          <a:xfrm>
            <a:off x="887400" y="3413160"/>
            <a:ext cx="3551400" cy="27288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4760" descr="rurl2=87ce5ac005a88045ca5e7e9c75114eb67113c9340b611ad8f0dc9f6c380f7957717eeba04ddd20bb25a2ecaaf31629ad95761c1a06f912e2a3c8bb09441d7f63af79bf920a9b9467c2f0aade03970350d84c49b6"/>
          <p:cNvPicPr/>
          <p:nvPr/>
        </p:nvPicPr>
        <p:blipFill>
          <a:blip r:embed="rId8"/>
          <a:stretch/>
        </p:blipFill>
        <p:spPr>
          <a:xfrm>
            <a:off x="4708440" y="3413160"/>
            <a:ext cx="3652920" cy="271944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25400" y="3277080"/>
            <a:ext cx="8008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金色花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通过写一个儿童把自己想象成一朵金色花，并由此引发联想：与妈妈“捉迷藏”，让妈妈嗅到花香，将影子投在妈妈所读的书页上等，以此来表现家庭之爱、母子之爱以及人类天性的美好和圣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5"/>
          <a:stretch/>
        </p:blipFill>
        <p:spPr>
          <a:xfrm>
            <a:off x="887400" y="1517760"/>
            <a:ext cx="40356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9"/>
          <p:cNvSpPr/>
          <p:nvPr/>
        </p:nvSpPr>
        <p:spPr>
          <a:xfrm>
            <a:off x="928800" y="3571920"/>
            <a:ext cx="2357280" cy="455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3" y="0"/>
                </a:lnTo>
                <a:lnTo>
                  <a:pt x="21600" y="10800"/>
                </a:lnTo>
                <a:lnTo>
                  <a:pt x="200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d9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5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954000" y="2503440"/>
            <a:ext cx="2222640" cy="45576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8" y="0"/>
                </a:lnTo>
                <a:lnTo>
                  <a:pt x="21600" y="10800"/>
                </a:lnTo>
                <a:lnTo>
                  <a:pt x="199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d9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942840" y="2197800"/>
            <a:ext cx="738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富有童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一个活泼、调皮、可爱的孩子的口吻来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清新隽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华丽刻意的辞藻，所用都只是平常语句，却意境深远，回味悠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5"/>
          <a:stretch/>
        </p:blipFill>
        <p:spPr>
          <a:xfrm>
            <a:off x="604800" y="1668600"/>
            <a:ext cx="48164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6386"/>
          <p:cNvSpPr txBox="1"/>
          <p:nvPr/>
        </p:nvSpPr>
        <p:spPr>
          <a:xfrm>
            <a:off x="0" y="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仿写延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54" name="矩形 16388"/>
          <p:cNvSpPr/>
          <p:nvPr/>
        </p:nvSpPr>
        <p:spPr>
          <a:xfrm>
            <a:off x="0" y="3122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首诗诗人想像“我变成了一朵金色花”来表达纯真的母子之爱，借助一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具体的形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抒发感情是本文一个巧妙的手法。即是借物抒情（托物言志）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6389"/>
          <p:cNvSpPr/>
          <p:nvPr/>
        </p:nvSpPr>
        <p:spPr>
          <a:xfrm>
            <a:off x="179280" y="1413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写法探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7411"/>
          <p:cNvSpPr/>
          <p:nvPr/>
        </p:nvSpPr>
        <p:spPr>
          <a:xfrm>
            <a:off x="179280" y="2470320"/>
            <a:ext cx="8964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用“假如我变成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一句话来表达对母亲（父亲）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：假如我变成了一条清清的溪流，我要在妈妈工作累时，让妈妈来到我身边，听我唱一支欢快的歌曲，抖落满身的疲惫；我要在妈妈口渴时，让妈妈品尝我甘甜的水，使她重新变得容光焕发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7412"/>
          <p:cNvSpPr/>
          <p:nvPr/>
        </p:nvSpPr>
        <p:spPr>
          <a:xfrm>
            <a:off x="250920" y="5373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假如我变成了一盏灯，我要为妈妈照亮夜行的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6386"/>
          <p:cNvSpPr txBox="1"/>
          <p:nvPr/>
        </p:nvSpPr>
        <p:spPr>
          <a:xfrm>
            <a:off x="0" y="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仿写延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pull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9457" descr=""/>
          <p:cNvPicPr/>
          <p:nvPr/>
        </p:nvPicPr>
        <p:blipFill>
          <a:blip r:embed="rId1"/>
          <a:stretch/>
        </p:blipFill>
        <p:spPr>
          <a:xfrm>
            <a:off x="1646280" y="1027080"/>
            <a:ext cx="5808600" cy="435600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19458"/>
          <p:cNvSpPr/>
          <p:nvPr/>
        </p:nvSpPr>
        <p:spPr>
          <a:xfrm>
            <a:off x="1778040" y="1878120"/>
            <a:ext cx="56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现代著名诗人徐志摩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泰戈尔来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说冰心是“最有名神形毕肖的泰戈尔的私淑弟子”。下面，我们一起来学习冰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荷叶  母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感悟她所受到的泰戈尔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图片1"/>
          <p:cNvPicPr/>
          <p:nvPr/>
        </p:nvPicPr>
        <p:blipFill>
          <a:blip r:embed="rId1"/>
          <a:srcRect l="6536" t="6973" r="7044" b="7178"/>
          <a:stretch/>
        </p:blipFill>
        <p:spPr>
          <a:xfrm>
            <a:off x="757080" y="735120"/>
            <a:ext cx="3667320" cy="2822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0070228115821666"/>
          <p:cNvPicPr/>
          <p:nvPr/>
        </p:nvPicPr>
        <p:blipFill>
          <a:blip r:embed="rId2"/>
          <a:srcRect l="0" t="0" r="0" b="11543"/>
          <a:stretch/>
        </p:blipFill>
        <p:spPr>
          <a:xfrm>
            <a:off x="4572000" y="3645000"/>
            <a:ext cx="3639960" cy="2262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4284720" y="1268280"/>
            <a:ext cx="5327640" cy="100836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黑体"/>
                <a:ea typeface="黑体"/>
              </a:rPr>
              <a:t>《</a:t>
            </a:r>
            <a:r>
              <a:rPr b="1" lang="zh-CN" sz="6000" spc="-1" strike="noStrike">
                <a:solidFill>
                  <a:srgbClr val="cc00ff"/>
                </a:solidFill>
                <a:latin typeface="黑体"/>
                <a:ea typeface="黑体"/>
              </a:rPr>
              <a:t>荷叶</a:t>
            </a:r>
            <a:r>
              <a:rPr b="1" lang="en-US" sz="6000" spc="-1" strike="noStrike">
                <a:solidFill>
                  <a:srgbClr val="cc00ff"/>
                </a:solidFill>
                <a:latin typeface="Arial"/>
                <a:ea typeface="黑体"/>
              </a:rPr>
              <a:t>·</a:t>
            </a:r>
            <a:r>
              <a:rPr b="1" lang="zh-CN" sz="6000" spc="-1" strike="noStrike">
                <a:solidFill>
                  <a:srgbClr val="cc00ff"/>
                </a:solidFill>
                <a:latin typeface="黑体"/>
                <a:ea typeface="黑体"/>
              </a:rPr>
              <a:t>母亲</a:t>
            </a:r>
            <a:r>
              <a:rPr b="1" lang="en-US" sz="6000" spc="-1" strike="noStrike">
                <a:solidFill>
                  <a:srgbClr val="cc00ff"/>
                </a:solidFill>
                <a:latin typeface="黑体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"/>
          <p:cNvSpPr/>
          <p:nvPr/>
        </p:nvSpPr>
        <p:spPr>
          <a:xfrm>
            <a:off x="1432800" y="484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冰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609480" y="1017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96880" y="1573200"/>
            <a:ext cx="601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谢婉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中国现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名女作家，儿童文学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04800" y="2433600"/>
            <a:ext cx="6095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表作有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散文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寄小读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诗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繁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春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809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心的创作内容大致包括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爱、童真、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宣扬“爱的哲学”著称，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爱，就是“爱的哲学”的根本出发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图片6"/>
          <p:cNvPicPr/>
          <p:nvPr/>
        </p:nvPicPr>
        <p:blipFill>
          <a:blip r:embed="rId1"/>
          <a:stretch/>
        </p:blipFill>
        <p:spPr>
          <a:xfrm>
            <a:off x="349200" y="3267000"/>
            <a:ext cx="2138400" cy="308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图片7"/>
          <p:cNvPicPr/>
          <p:nvPr/>
        </p:nvPicPr>
        <p:blipFill>
          <a:blip r:embed="rId2"/>
          <a:stretch/>
        </p:blipFill>
        <p:spPr>
          <a:xfrm>
            <a:off x="6662880" y="520560"/>
            <a:ext cx="2098440" cy="29070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17"/>
          <p:cNvPicPr/>
          <p:nvPr/>
        </p:nvPicPr>
        <p:blipFill>
          <a:blip r:embed="rId1"/>
          <a:stretch/>
        </p:blipFill>
        <p:spPr>
          <a:xfrm>
            <a:off x="399960" y="542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33680" y="1022040"/>
            <a:ext cx="42670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文的重点是写红莲。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三次写看到红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时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环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怎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红莲的形态如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心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是怎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295280" y="552600"/>
            <a:ext cx="24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23557" descr="Y"/>
          <p:cNvPicPr/>
          <p:nvPr/>
        </p:nvPicPr>
        <p:blipFill>
          <a:blip r:embed="rId2"/>
          <a:srcRect l="0" t="0" r="0" b="3772"/>
          <a:stretch/>
        </p:blipFill>
        <p:spPr>
          <a:xfrm>
            <a:off x="120600" y="1447920"/>
            <a:ext cx="4040280" cy="432756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24577"/>
          <p:cNvSpPr/>
          <p:nvPr/>
        </p:nvSpPr>
        <p:spPr>
          <a:xfrm>
            <a:off x="1457640" y="155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红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4578"/>
          <p:cNvSpPr/>
          <p:nvPr/>
        </p:nvSpPr>
        <p:spPr>
          <a:xfrm>
            <a:off x="1247040" y="215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亭亭立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579"/>
          <p:cNvSpPr/>
          <p:nvPr/>
        </p:nvSpPr>
        <p:spPr>
          <a:xfrm>
            <a:off x="1291680" y="3575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左右欹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4580"/>
          <p:cNvSpPr/>
          <p:nvPr/>
        </p:nvSpPr>
        <p:spPr>
          <a:xfrm>
            <a:off x="1291680" y="48704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摇动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581"/>
          <p:cNvSpPr/>
          <p:nvPr/>
        </p:nvSpPr>
        <p:spPr>
          <a:xfrm>
            <a:off x="4439160" y="26384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浓阴的天，为红莲而担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4582"/>
          <p:cNvSpPr/>
          <p:nvPr/>
        </p:nvSpPr>
        <p:spPr>
          <a:xfrm>
            <a:off x="2247840" y="4078440"/>
            <a:ext cx="68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担忧伤心、无计可施，为荷叶的出现做铺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583"/>
          <p:cNvSpPr/>
          <p:nvPr/>
        </p:nvSpPr>
        <p:spPr>
          <a:xfrm>
            <a:off x="3778200" y="544680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赞美荷叶，为红莲而高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4584"/>
          <p:cNvSpPr/>
          <p:nvPr/>
        </p:nvSpPr>
        <p:spPr>
          <a:xfrm>
            <a:off x="399960" y="8301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作者的心情是怎样为红莲而动的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4585"/>
          <p:cNvSpPr/>
          <p:nvPr/>
        </p:nvSpPr>
        <p:spPr>
          <a:xfrm>
            <a:off x="5108760" y="155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的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4586"/>
          <p:cNvSpPr/>
          <p:nvPr/>
        </p:nvSpPr>
        <p:spPr>
          <a:xfrm>
            <a:off x="5037480" y="3502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无法可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4587"/>
          <p:cNvSpPr/>
          <p:nvPr/>
        </p:nvSpPr>
        <p:spPr>
          <a:xfrm>
            <a:off x="4561200" y="2146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烦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4588"/>
          <p:cNvSpPr/>
          <p:nvPr/>
        </p:nvSpPr>
        <p:spPr>
          <a:xfrm>
            <a:off x="4293000" y="489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宁的心绪散尽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4589"/>
          <p:cNvSpPr/>
          <p:nvPr/>
        </p:nvSpPr>
        <p:spPr>
          <a:xfrm>
            <a:off x="5932080" y="2146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4590"/>
          <p:cNvSpPr/>
          <p:nvPr/>
        </p:nvSpPr>
        <p:spPr>
          <a:xfrm>
            <a:off x="6809400" y="488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感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828720" y="476280"/>
            <a:ext cx="7620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文中看，荷叶的什么特点与母亲相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5602"/>
          <p:cNvSpPr/>
          <p:nvPr/>
        </p:nvSpPr>
        <p:spPr>
          <a:xfrm>
            <a:off x="835200" y="229536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荷叶为莲花遮蔽风雨，这与生活中母亲为子女遮风挡雨，对孩子细心呵护和关爱多么相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5603" descr="3511159824396043[1]"/>
          <p:cNvPicPr/>
          <p:nvPr/>
        </p:nvPicPr>
        <p:blipFill>
          <a:blip r:embed="rId1"/>
          <a:stretch/>
        </p:blipFill>
        <p:spPr>
          <a:xfrm>
            <a:off x="3284640" y="3747960"/>
            <a:ext cx="3060720" cy="229572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54" descr="山底1.png"/>
          <p:cNvPicPr/>
          <p:nvPr/>
        </p:nvPicPr>
        <p:blipFill>
          <a:blip r:embed="rId1"/>
          <a:stretch/>
        </p:blipFill>
        <p:spPr>
          <a:xfrm>
            <a:off x="0" y="3506760"/>
            <a:ext cx="9144000" cy="33703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3"/>
          <p:cNvSpPr/>
          <p:nvPr/>
        </p:nvSpPr>
        <p:spPr>
          <a:xfrm>
            <a:off x="7787160" y="4353120"/>
            <a:ext cx="667800" cy="175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ei"/>
              </a:rPr>
              <a:t>散文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365640" y="654120"/>
            <a:ext cx="48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金色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beb6"/>
              </a:gs>
              <a:gs pos="100000">
                <a:srgbClr val="fafaef"/>
              </a:gs>
            </a:gsLst>
            <a:lin ang="16200000"/>
          </a:gradFill>
          <a:ln w="9360">
            <a:solidFill>
              <a:srgbClr val="fafa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1628640" y="687240"/>
            <a:ext cx="1182960" cy="1181160"/>
          </a:xfrm>
          <a:prstGeom prst="diamond">
            <a:avLst/>
          </a:prstGeom>
          <a:solidFill>
            <a:srgbClr val="8000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9"/>
          <p:cNvSpPr/>
          <p:nvPr/>
        </p:nvSpPr>
        <p:spPr>
          <a:xfrm>
            <a:off x="1859400" y="6602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d9"/>
                </a:solidFill>
                <a:latin typeface="方正大黑简体"/>
                <a:ea typeface="方正大黑简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s://timgsa.baidu.com/timg?image&amp;quality=80&amp;size=b9999_10000&amp;sec=1494580251917&amp;di=3981644a56beaddd0be3122dfb1c629b&amp;imgtype=0&amp;src=http%3A%2F%2Fimg0.ph.126.net%2F7IsaIqbL3xF1D1UC8a3vUQ%3D%3D%2F6630497119164720552.jpg"/>
          <p:cNvPicPr/>
          <p:nvPr/>
        </p:nvPicPr>
        <p:blipFill>
          <a:blip r:embed="rId3"/>
          <a:stretch/>
        </p:blipFill>
        <p:spPr>
          <a:xfrm>
            <a:off x="1187280" y="1989000"/>
            <a:ext cx="6491520" cy="42022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8194"/>
          <p:cNvSpPr/>
          <p:nvPr/>
        </p:nvSpPr>
        <p:spPr>
          <a:xfrm>
            <a:off x="6856920" y="1628640"/>
            <a:ext cx="164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泰戈尔（印 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68280" y="692280"/>
            <a:ext cx="8388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将自己比作红莲，从文中看，她们之间的相似点在哪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626"/>
          <p:cNvSpPr/>
          <p:nvPr/>
        </p:nvSpPr>
        <p:spPr>
          <a:xfrm>
            <a:off x="971640" y="2852640"/>
            <a:ext cx="71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莲花会被风吹雨打，我也有“心中的雨点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形标注 26627"/>
          <p:cNvSpPr/>
          <p:nvPr/>
        </p:nvSpPr>
        <p:spPr>
          <a:xfrm>
            <a:off x="2700360" y="4221000"/>
            <a:ext cx="4175280" cy="1511640"/>
          </a:xfrm>
          <a:prstGeom prst="wedgeEllipseCallout">
            <a:avLst>
              <a:gd name="adj1" fmla="val -60638"/>
              <a:gd name="adj2" fmla="val -7112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6628"/>
          <p:cNvSpPr/>
          <p:nvPr/>
        </p:nvSpPr>
        <p:spPr>
          <a:xfrm>
            <a:off x="3861720" y="45846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象征着人生路上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挫折、磨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539640" y="692280"/>
            <a:ext cx="7620120" cy="144144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言志，诗传情，这首诗抒发了是人什么样的感情？理由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5602"/>
          <p:cNvSpPr/>
          <p:nvPr/>
        </p:nvSpPr>
        <p:spPr>
          <a:xfrm>
            <a:off x="835200" y="2295360"/>
            <a:ext cx="718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母亲对子女的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荷叶荫蔽红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子女对母爱的赞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啊！你是荷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是红莲，心中的雨点来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除了你，谁是我在无遮拦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空下的荫蔽。”看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25603" descr="3511159824396043[1]"/>
          <p:cNvPicPr/>
          <p:nvPr/>
        </p:nvPicPr>
        <p:blipFill>
          <a:blip r:embed="rId1"/>
          <a:stretch/>
        </p:blipFill>
        <p:spPr>
          <a:xfrm>
            <a:off x="4643280" y="2708280"/>
            <a:ext cx="4513320" cy="3384720"/>
          </a:xfrm>
          <a:prstGeom prst="rect">
            <a:avLst/>
          </a:prstGeom>
          <a:ln w="0">
            <a:noFill/>
          </a:ln>
        </p:spPr>
      </p:pic>
      <p:sp>
        <p:nvSpPr>
          <p:cNvPr id="304" name="等腰三角形 4"/>
          <p:cNvSpPr/>
          <p:nvPr/>
        </p:nvSpPr>
        <p:spPr>
          <a:xfrm>
            <a:off x="324000" y="1052640"/>
            <a:ext cx="28728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6"/>
          <p:cNvSpPr/>
          <p:nvPr/>
        </p:nvSpPr>
        <p:spPr>
          <a:xfrm>
            <a:off x="5222880" y="404640"/>
            <a:ext cx="31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啊！你是荷叶，我是红莲，心中的雨点来了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除了你，谁是我在无遮拦天空下的荫蔽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88873"/>
          <p:cNvPicPr/>
          <p:nvPr/>
        </p:nvPicPr>
        <p:blipFill>
          <a:blip r:embed="rId1"/>
          <a:stretch/>
        </p:blipFill>
        <p:spPr>
          <a:xfrm>
            <a:off x="1360440" y="701640"/>
            <a:ext cx="2509920" cy="2897280"/>
          </a:xfrm>
          <a:prstGeom prst="rect">
            <a:avLst/>
          </a:prstGeom>
          <a:ln w="0">
            <a:noFill/>
          </a:ln>
        </p:spPr>
      </p:pic>
      <p:sp>
        <p:nvSpPr>
          <p:cNvPr id="307" name="Line 13"/>
          <p:cNvSpPr/>
          <p:nvPr/>
        </p:nvSpPr>
        <p:spPr>
          <a:xfrm>
            <a:off x="7232760" y="15048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5267160" y="2100240"/>
            <a:ext cx="1143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8" descr="MasterPiecel1589225"/>
          <p:cNvPicPr/>
          <p:nvPr/>
        </p:nvPicPr>
        <p:blipFill>
          <a:blip r:embed="rId2"/>
          <a:stretch/>
        </p:blipFill>
        <p:spPr>
          <a:xfrm>
            <a:off x="1031760" y="3774960"/>
            <a:ext cx="3497400" cy="265140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27"/>
          <p:cNvGrpSpPr/>
          <p:nvPr/>
        </p:nvGrpSpPr>
        <p:grpSpPr>
          <a:xfrm>
            <a:off x="2295360" y="504720"/>
            <a:ext cx="2351160" cy="1347840"/>
            <a:chOff x="2295360" y="504720"/>
            <a:chExt cx="2351160" cy="1347840"/>
          </a:xfrm>
        </p:grpSpPr>
        <p:sp>
          <p:nvSpPr>
            <p:cNvPr id="311" name="AutoShape 24"/>
            <p:cNvSpPr/>
            <p:nvPr/>
          </p:nvSpPr>
          <p:spPr>
            <a:xfrm>
              <a:off x="2295360" y="504720"/>
              <a:ext cx="2351160" cy="1347840"/>
            </a:xfrm>
            <a:prstGeom prst="wedgeEllipseCallout">
              <a:avLst>
                <a:gd name="adj1" fmla="val 71851"/>
                <a:gd name="adj2" fmla="val 58745"/>
              </a:avLst>
            </a:prstGeom>
            <a:solidFill>
              <a:srgbClr val="ffffff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5"/>
            <p:cNvSpPr/>
            <p:nvPr/>
          </p:nvSpPr>
          <p:spPr>
            <a:xfrm>
              <a:off x="2464560" y="64872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象征着人生路上的风雨、坎坷、磨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7657"/>
          <p:cNvSpPr/>
          <p:nvPr/>
        </p:nvSpPr>
        <p:spPr>
          <a:xfrm>
            <a:off x="5292720" y="32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划线句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7658"/>
          <p:cNvSpPr/>
          <p:nvPr/>
        </p:nvSpPr>
        <p:spPr>
          <a:xfrm>
            <a:off x="5254560" y="3633840"/>
            <a:ext cx="36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人生的道路上，只有母亲是保护我们度过人生坎坷与磨难的人。母亲就是我们生命中永远为我们遮蔽风雨的人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点明了主旨，深化了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流程图: 摘录 12"/>
          <p:cNvSpPr/>
          <p:nvPr/>
        </p:nvSpPr>
        <p:spPr>
          <a:xfrm>
            <a:off x="5148360" y="3357720"/>
            <a:ext cx="215640" cy="215640"/>
          </a:xfrm>
          <a:prstGeom prst="flowChartExtract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28673" descr="图片1"/>
          <p:cNvPicPr/>
          <p:nvPr/>
        </p:nvPicPr>
        <p:blipFill>
          <a:blip r:embed="rId1"/>
          <a:stretch/>
        </p:blipFill>
        <p:spPr>
          <a:xfrm>
            <a:off x="4605480" y="3419640"/>
            <a:ext cx="4538520" cy="3438360"/>
          </a:xfrm>
          <a:prstGeom prst="rect">
            <a:avLst/>
          </a:prstGeom>
          <a:ln w="0">
            <a:noFill/>
          </a:ln>
        </p:spPr>
      </p:pic>
      <p:sp>
        <p:nvSpPr>
          <p:cNvPr id="318" name="文本框 28674"/>
          <p:cNvSpPr/>
          <p:nvPr/>
        </p:nvSpPr>
        <p:spPr>
          <a:xfrm>
            <a:off x="1958040" y="1052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托物寄情，以花喻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675"/>
          <p:cNvSpPr/>
          <p:nvPr/>
        </p:nvSpPr>
        <p:spPr>
          <a:xfrm>
            <a:off x="250920" y="1700280"/>
            <a:ext cx="87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荷花”是“我”；“荷叶”是母亲；风雨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生路上的风雨、坎坷、磨难；荷叶护红莲喻母亲保护子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作者要表达的感情是：赞美母爱博大无边，伟大无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"/>
          <p:cNvSpPr/>
          <p:nvPr/>
        </p:nvSpPr>
        <p:spPr>
          <a:xfrm>
            <a:off x="611280" y="1197000"/>
            <a:ext cx="360360" cy="1443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"/>
          <p:cNvSpPr/>
          <p:nvPr/>
        </p:nvSpPr>
        <p:spPr>
          <a:xfrm>
            <a:off x="828720" y="476280"/>
            <a:ext cx="7620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为什要从自己院子里的莲花写起？为什么要插入九年前与祖父的赏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5602"/>
          <p:cNvSpPr/>
          <p:nvPr/>
        </p:nvSpPr>
        <p:spPr>
          <a:xfrm>
            <a:off x="468360" y="2295360"/>
            <a:ext cx="755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作用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花与人紧密联系在一起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“我家”与荷花有很深感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喜爱荷花，为后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惦记雨中荷花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喻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埋下伏笔（铺垫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25603" descr="3511159824396043[1]"/>
          <p:cNvPicPr/>
          <p:nvPr/>
        </p:nvPicPr>
        <p:blipFill>
          <a:blip r:embed="rId1"/>
          <a:stretch/>
        </p:blipFill>
        <p:spPr>
          <a:xfrm>
            <a:off x="3851280" y="2852640"/>
            <a:ext cx="5095800" cy="3824280"/>
          </a:xfrm>
          <a:prstGeom prst="rect">
            <a:avLst/>
          </a:prstGeom>
          <a:ln w="0">
            <a:noFill/>
          </a:ln>
        </p:spPr>
      </p:pic>
      <p:sp>
        <p:nvSpPr>
          <p:cNvPr id="325" name="椭圆 4"/>
          <p:cNvSpPr/>
          <p:nvPr/>
        </p:nvSpPr>
        <p:spPr>
          <a:xfrm>
            <a:off x="468360" y="1413000"/>
            <a:ext cx="358560" cy="1443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31745"/>
          <p:cNvSpPr/>
          <p:nvPr/>
        </p:nvSpPr>
        <p:spPr>
          <a:xfrm>
            <a:off x="642960" y="120816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以寸草之心报三春之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31747" descr="母子5"/>
          <p:cNvPicPr/>
          <p:nvPr/>
        </p:nvPicPr>
        <p:blipFill>
          <a:blip r:embed="rId1"/>
          <a:stretch/>
        </p:blipFill>
        <p:spPr>
          <a:xfrm>
            <a:off x="1414440" y="2411280"/>
            <a:ext cx="2336760" cy="17733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31748" descr="母子4"/>
          <p:cNvPicPr/>
          <p:nvPr/>
        </p:nvPicPr>
        <p:blipFill>
          <a:blip r:embed="rId2"/>
          <a:stretch/>
        </p:blipFill>
        <p:spPr>
          <a:xfrm>
            <a:off x="4726080" y="2436840"/>
            <a:ext cx="2881080" cy="177336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29697"/>
          <p:cNvSpPr/>
          <p:nvPr/>
        </p:nvSpPr>
        <p:spPr>
          <a:xfrm>
            <a:off x="971640" y="907920"/>
            <a:ext cx="80690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吐露心声：</a:t>
            </a:r>
            <a:r>
              <a:rPr b="1" sz="2400" spc="-1" strike="noStrike">
                <a:solidFill>
                  <a:srgbClr val="0000ff"/>
                </a:solidFill>
                <a:latin typeface="宋体"/>
                <a:ea typeface="宋体"/>
              </a:rPr>
              <a:t>这首散文诗是借助一种具体的形象来</a:t>
            </a:r>
            <a:r>
              <a:rPr b="1" sz="2400" spc="-1" strike="noStrike">
                <a:solidFill>
                  <a:srgbClr val="ff0000"/>
                </a:solidFill>
                <a:latin typeface="宋体"/>
                <a:ea typeface="宋体"/>
              </a:rPr>
              <a:t>抒发对母亲的爱。</a:t>
            </a:r>
            <a:r>
              <a:rPr b="1" sz="2400" spc="-1" strike="noStrike">
                <a:solidFill>
                  <a:srgbClr val="0000ff"/>
                </a:solidFill>
                <a:latin typeface="宋体"/>
                <a:ea typeface="宋体"/>
              </a:rPr>
              <a:t>你也可以用这种手法写一句话表达对母亲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698"/>
          <p:cNvSpPr/>
          <p:nvPr/>
        </p:nvSpPr>
        <p:spPr>
          <a:xfrm>
            <a:off x="511200" y="33638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母亲，如果我是＿＿＿＿＿，你就是＿＿＿＿＿，除了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谁＿＿＿＿＿＿＿＿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9699"/>
          <p:cNvSpPr/>
          <p:nvPr/>
        </p:nvSpPr>
        <p:spPr>
          <a:xfrm>
            <a:off x="468360" y="2060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例子：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母亲，如果我是红莲，你就是荷叶，除了你，谁是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在无遮拦天空下的荫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29700" descr="1"/>
          <p:cNvPicPr/>
          <p:nvPr/>
        </p:nvPicPr>
        <p:blipFill>
          <a:blip r:embed="rId1"/>
          <a:stretch/>
        </p:blipFill>
        <p:spPr>
          <a:xfrm>
            <a:off x="0" y="574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9701" descr="542747"/>
          <p:cNvPicPr/>
          <p:nvPr/>
        </p:nvPicPr>
        <p:blipFill>
          <a:blip r:embed="rId2"/>
          <a:stretch/>
        </p:blipFill>
        <p:spPr>
          <a:xfrm>
            <a:off x="2008080" y="431964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9702" descr="baobaodezhu,20070728202913519"/>
          <p:cNvPicPr/>
          <p:nvPr/>
        </p:nvPicPr>
        <p:blipFill>
          <a:blip r:embed="rId3"/>
          <a:stretch/>
        </p:blipFill>
        <p:spPr>
          <a:xfrm>
            <a:off x="5918040" y="4362480"/>
            <a:ext cx="2160720" cy="1917720"/>
          </a:xfrm>
          <a:prstGeom prst="rect">
            <a:avLst/>
          </a:prstGeom>
          <a:ln w="0">
            <a:noFill/>
          </a:ln>
        </p:spPr>
      </p:pic>
      <p:sp>
        <p:nvSpPr>
          <p:cNvPr id="3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30722"/>
          <p:cNvSpPr/>
          <p:nvPr/>
        </p:nvSpPr>
        <p:spPr>
          <a:xfrm>
            <a:off x="876240" y="1152360"/>
            <a:ext cx="756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验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啊，你是雨露，我是禾苗，除了你，谁能滋润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枯的心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啊，你是大地，我是种子，除了你，谁能让我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壮成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伞，我是伞下的孩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灯塔，我是夜航的船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挺拔的树，我是树上的果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33793" descr="SO00828_"/>
          <p:cNvPicPr/>
          <p:nvPr/>
        </p:nvPicPr>
        <p:blipFill>
          <a:blip r:embed="rId1"/>
          <a:stretch/>
        </p:blipFill>
        <p:spPr>
          <a:xfrm>
            <a:off x="3878280" y="4152960"/>
            <a:ext cx="1306440" cy="182700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33794"/>
          <p:cNvSpPr/>
          <p:nvPr/>
        </p:nvSpPr>
        <p:spPr>
          <a:xfrm>
            <a:off x="579600" y="1911240"/>
            <a:ext cx="7939080" cy="173988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搜集积累表达母爱歌颂母亲的诗歌、名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探究两首诗的异同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选择你喜欢的方式，把自己对父母的爱付诸行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3708360" y="18446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9280" y="14965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金色花：印度圣树，开金黄色碎花，神圣而又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诗中的“金色花”喻儿童，表达一种母子深情，母子之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timgsa.baidu.com/timg?image&amp;quality=80&amp;size=b9999_10000&amp;sec=1494580251917&amp;di=3981644a56beaddd0be3122dfb1c629b&amp;imgtype=0&amp;src=http%3A%2F%2Fimg0.ph.126.net%2F7IsaIqbL3xF1D1UC8a3vUQ%3D%3D%2F6630497119164720552.jpg"/>
          <p:cNvPicPr/>
          <p:nvPr/>
        </p:nvPicPr>
        <p:blipFill>
          <a:blip r:embed="rId1"/>
          <a:stretch/>
        </p:blipFill>
        <p:spPr>
          <a:xfrm>
            <a:off x="1042920" y="2276640"/>
            <a:ext cx="6491520" cy="4201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932040" y="2900520"/>
            <a:ext cx="566640" cy="46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32040" y="346860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0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20880" y="231300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006560" y="2195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有感情地朗读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体验人间至爱亲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学习借助一种具体的形象来抒发感情的表达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224960" y="27226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3"/>
          <p:cNvSpPr/>
          <p:nvPr/>
        </p:nvSpPr>
        <p:spPr>
          <a:xfrm>
            <a:off x="2127960" y="38163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D:\我的文档\Tencent Files\923213587\FileRecv\出示目标.gif"/>
          <p:cNvPicPr/>
          <p:nvPr/>
        </p:nvPicPr>
        <p:blipFill>
          <a:blip r:embed="rId4"/>
          <a:stretch/>
        </p:blipFill>
        <p:spPr>
          <a:xfrm>
            <a:off x="33289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14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>
                <a:gd name="textAreaLeft" fmla="*/ 0 w 1672200"/>
                <a:gd name="textAreaRight" fmla="*/ 1672560 w 16722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14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1" descr="图片1"/>
          <p:cNvPicPr/>
          <p:nvPr/>
        </p:nvPicPr>
        <p:blipFill>
          <a:blip r:embed="rId1"/>
          <a:stretch/>
        </p:blipFill>
        <p:spPr>
          <a:xfrm>
            <a:off x="368280" y="1955880"/>
            <a:ext cx="3618000" cy="3867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4187880" y="2884680"/>
            <a:ext cx="4643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泰戈尔（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）罗宾德拉纳特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泰戈尔是印度近代文学史上一位具有里程碑意义的作家。他多才多艺，遍观百家，是位杰出的诗人、小说家、戏剧家。他的诗，风格秀丽、感情醇厚、意象生动、韵律优美、文字隽永。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爱、欢乐、光明是他歌唱的永恒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3814920" y="2463480"/>
            <a:ext cx="532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泰戈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61-194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印度作家、诗人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会活动家。作品有长篇小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沙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沉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戈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剧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道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王和王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吉多塔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邮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诗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吉檀迦利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新月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园丁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飞鸟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诺贝尔文学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C:\Users\Administrator\Desktop\68hogg9lqte3 (1).jpg"/>
          <p:cNvPicPr/>
          <p:nvPr/>
        </p:nvPicPr>
        <p:blipFill>
          <a:blip r:embed="rId4"/>
          <a:srcRect l="50128" t="0" r="0" b="0"/>
          <a:stretch/>
        </p:blipFill>
        <p:spPr>
          <a:xfrm>
            <a:off x="125280" y="2367000"/>
            <a:ext cx="3564000" cy="4164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6"/>
          <a:stretch/>
        </p:blipFill>
        <p:spPr>
          <a:xfrm>
            <a:off x="0" y="132552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804960" y="2523960"/>
            <a:ext cx="7737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色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诗选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泰戈尔诗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色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他的早期作品。这一时期，泰戈尔的创作往往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梦幻多于现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他本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幻想通过温和的宗教、哲学、教育和道德等手段来改造国民、改造社会，从而实现民族自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tretch/>
        </p:blipFill>
        <p:spPr>
          <a:xfrm>
            <a:off x="603360" y="1467000"/>
            <a:ext cx="4035240" cy="85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755640" y="33703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散文诗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是兼有散文和诗的特点的一种文学体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它融合了诗的表现性和散文描写性的某些特点。从本质上看，它有诗的情绪和幻想，给读者美感和想像，但内容上保留了有诗意的散文性细节；从形式上看，它有散文的外观，不像诗歌那样分行和押韵，但不乏内在的音乐美和节奏感。它是用散文形式写成的诗篇，即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散文其形，诗意其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tretch/>
        </p:blipFill>
        <p:spPr>
          <a:xfrm>
            <a:off x="291960" y="506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116000" y="690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ff"/>
                </a:solidFill>
                <a:latin typeface="Arial"/>
                <a:ea typeface="黑体"/>
              </a:rPr>
              <a:t>了解散文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9T15:03:58Z</dcterms:modified>
  <cp:revision>1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